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D5D-8842-4916-9CE6-1815BCE3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A6F-94A4-4C41-B732-1A588CD5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F05-6DB3-4B5B-B44C-5D20A660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9F9-3E41-4408-8CBE-D44CFFCF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312-4DC4-4E6A-BA5A-C470306D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42B-DDE8-45FD-9E8C-AA638E1F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37E-727F-40A9-A79C-D1F44523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70A-AAD0-43F1-976D-C7456EDB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B8E-3EF0-4FFB-AF95-12DDB0D8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CE9-9B9E-4A32-BC14-B1AAADA7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DB8-811B-4AED-BB8D-63B355A9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5E8-E316-4DB4-AD33-E11CD817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D95E-ACCE-4830-9821-188A769D0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2 da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66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tomic Mass – an average of all the elements’ isotopes (different # of neutrons compared to pro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of Elements – 3 main cla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286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etals – majority of th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743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ood conductors of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200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lid at room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657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are malleable (can be sha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114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are ductile (drawn into thin wi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und left of the stai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t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145200" cy="213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3429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metals = elements in groups 3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8862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rm a bridge between elements on the left side and right side of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7242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have more properties in common than elements in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mon metals: mercury, aluminum, copper, nicke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,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Nonmetals – to the right of the stai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133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t2" descr=""/>
          <p:cNvPicPr/>
          <p:nvPr/>
        </p:nvPicPr>
        <p:blipFill>
          <a:blip r:embed="rId1"/>
          <a:stretch/>
        </p:blipFill>
        <p:spPr>
          <a:xfrm>
            <a:off x="0" y="1828800"/>
            <a:ext cx="8991720" cy="270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4343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oor conductors of electricity/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800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ny are gasses at room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5181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/chemical properties vary grea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mon nonmetals: flourine (most rea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lfur, oxygen, hel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Metalloids – the elements that form the stai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905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all between metals and non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2362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hare characteristics of both metals and non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048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mon metalloids:  silicon, Ars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581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 across a period – properties within a period change in similar ways from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267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cross a period (from L to R) the elements become less metallic and more non-metallic in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20:54Z</dcterms:created>
  <dc:creator>Farwell Area Schools</dc:creator>
  <dc:description/>
  <dc:language>en-US</dc:language>
  <cp:lastModifiedBy>Farwell Area Schools</cp:lastModifiedBy>
  <dcterms:modified xsi:type="dcterms:W3CDTF">2008-09-19T18:39:13Z</dcterms:modified>
  <cp:revision>7</cp:revision>
  <dc:subject/>
  <dc:title>Note Guide 2-2 day 2</dc:title>
</cp:coreProperties>
</file>